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632-F40B-4F81-8710-D3A85D62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05D-9986-4E57-977F-4E2425E0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1FE-4005-4325-B3B0-9B275D7C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737-7C8B-4BC3-B15C-A0A099EB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C76-AE01-4207-AB11-361AAD8D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44A-4FA8-40A7-B7C8-FA2293FD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CC4-767C-431A-A0CE-44254802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A7B-DF94-4EFC-A444-DC83E23E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C4E-1A62-49A4-9702-43BB33E4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AC1-BF85-4B9B-9E60-345F11F1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207-063C-4F5A-9332-11C0728A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D7B-FD5E-4886-ABBC-6BFA1ABA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A4D5-0FC1-480D-AE82-683F9F37D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0/USA_Map_1864_including_Civil_War_Divisions.pn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e/Abraham_Lincoln_seated%2C_Feb_9%2C_1864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1/10/President-Jefferson-Davis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gt_beauregard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en.wikipedia.org/wiki/File:Sumter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en.wikipedia.org/wiki/File:GenUSGrant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en.wikipedia.org/wiki/File:Robert_Edward_Lee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en.wikipedia.org/wiki/File:McLean_House_parlor,_Appomattox_Court_House,_Virginia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merican Civil War and Reconstruc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61-1865(up to 18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08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32360" y="1341360"/>
            <a:ext cx="3348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th vs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vs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on vs Confede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es vs Grays (Yankees vs Johnny 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cracy vs Slav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File:USA Map 1864 including Civil War Divisions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3789360"/>
            <a:ext cx="46432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rthern States – Un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 st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ifornia, Connecticut, Delaware (S), Illinois, Indiana, Iowa, Kansas, Kentucky (S), Maine, Maryland (S), Massachusetts, Michigan, Minnesota, Missouri (S), New Hampshire, New Jersey, New York, Ohio, Oregon, Pennsylvania, Rhode Island, Vermont, and Wiscon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uring the wa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ada and West Virginia joined as new states of the 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nessee and Louisi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returned to Union military control early in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ritori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ado, Dakota, Nebraska, Nevada, New Mexico, Utah, and Washing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ught on the Union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South - Confed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Carolina, Mississippi, Florida, Alabama, Georgia, Louisiana, and Texas. (Feb.4 , 186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irginia, Arkansas, North Carolina and Tennessee joined a few months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I think that the North fought that war with one hand behind its back...If there had been more Southern victories, and a lot more, the North simply would have brought that other hand out from behind its back. I don't think the South ever had a chance to win that War.“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of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e of the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 million ( 400,000 sla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7% fire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,000km of rail(7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 million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%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million (3.5 million sla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%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% fire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000km of rail(29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million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00720" y="333360"/>
            <a:ext cx="2843280" cy="1851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0765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Presidents – only o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File:Abraham Lincoln seated, Feb 9, 186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84280"/>
            <a:ext cx="3402000" cy="381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ile:President-Jefferson-Davi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3640" y="1484280"/>
            <a:ext cx="2970360" cy="3816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12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raham Lincoln 1861-18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12536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fferson Davis 1861-18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5229360"/>
            <a:ext cx="464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: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as a president: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ire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229360"/>
            <a:ext cx="356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: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est President: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assinated April 15, 18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1916280"/>
            <a:ext cx="2448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Both had Kentucky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rvice in US Gov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rvice in the military during Jackson’s Presi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eginning and An End –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l 12,1861 and April 9,18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Pgt beauregar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6840"/>
            <a:ext cx="2190600" cy="2981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Sumt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428840"/>
            <a:ext cx="406728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68360" y="4076640"/>
            <a:ext cx="122400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ttack on Fort Sumter in Charleston Bay, South Caroli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d by P.G.T. Beaure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85040" y="4365720"/>
            <a:ext cx="1758960" cy="2492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Robert Edward Le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59280" y="4365720"/>
            <a:ext cx="1616040" cy="2492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McLean House parlor, Appomattox Court House, Virginia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076720" y="1341360"/>
            <a:ext cx="4067280" cy="2495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88000" y="3860640"/>
            <a:ext cx="47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render at Appomattox Court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4941720"/>
            <a:ext cx="100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Lee &amp; Ulysses S. G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rue Industrial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 10,000 military engagements took place during the war, 40% of them in Virginia and Tenness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very for the Confederacy's 3.5 million blacks effectively ended when Union armies arr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r produced about 1,030,000 casualties (3% of the population), including about 620,000 soldier deaths—two-thirds by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 percent of all Northern males 20–45 years of age died, as did 30 percent of all Southern white males aged 18–4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mancipation Proclamation enabled African-Americans, both free blacks and escaped slaves, to join the Union Army - 190,000 voluntee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immigrants joined the Union Army in large numbers, including 177,000 born in Germany and 144,000 born in Irel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,000 soldiers died in prisons during the Civil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tell my mother I died for my country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Our country owed all her troubles to him, and God simply made me the instrument of his punishment.“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268360" cy="3284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2268360" cy="280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627280" y="1413000"/>
            <a:ext cx="3513240" cy="468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588000" y="3860640"/>
            <a:ext cx="2556000" cy="2997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File:John Wilkes Booth wanted poster new.jpg"/>
          <p:cNvPicPr/>
          <p:nvPr/>
        </p:nvPicPr>
        <p:blipFill>
          <a:blip r:embed="rId5"/>
          <a:stretch/>
        </p:blipFill>
        <p:spPr>
          <a:xfrm>
            <a:off x="6588000" y="1052640"/>
            <a:ext cx="2556000" cy="3240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79640" y="6093000"/>
            <a:ext cx="52264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9360" bIns="9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Sic semper tyrannis!” (Thus always to tyra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64911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 Wilkes 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8:45:01Z</dcterms:created>
  <dc:creator>User</dc:creator>
  <dc:description/>
  <dc:language>en-US</dc:language>
  <cp:lastModifiedBy>User</cp:lastModifiedBy>
  <dcterms:modified xsi:type="dcterms:W3CDTF">2010-11-15T00:02:12Z</dcterms:modified>
  <cp:revision>3</cp:revision>
  <dc:subject/>
  <dc:title>The American Civil War and Reconstruction 1861-1865(up to 1877)</dc:title>
</cp:coreProperties>
</file>